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2.wmf" ContentType="image/x-wmf"/>
  <Override PartName="/ppt/media/image9.jpeg" ContentType="image/jpeg"/>
  <Override PartName="/ppt/media/image11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E009-F088-4B3F-822F-531CF8D75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520C-53FE-415C-AF75-ABFB524C9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7A33-8C06-419F-8640-6AD33B1E9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CA64-CB95-4459-AAC4-6C5D8D677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867D-ABE0-447D-8256-60D4F3C4F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E7C0-1148-4116-885B-6BD83E233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8986-F9E1-4459-82DD-322C673D8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7549-D2EE-451D-9536-F0B60B80C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82B3-8981-48F7-AAF6-AC123181A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6E2D-3E43-4116-BEBB-0C46CCE8C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40D1-820C-497D-8858-DB6B019C9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DA45-BAC5-41E2-891A-77F7C8B2A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A3F4D-CE72-4B8E-B5E2-BC51596A8C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osibilidades de Inversión en Invernade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Ing. Carlos Zanatti 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Agroindustrias Vida S.A.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ercializ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Logís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rop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ubcontr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¿Quién la pag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Inter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ayoris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inori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xter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ercado d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mod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rok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Transnacion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nclusiones y Recomendacio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ú dispone de ya de una tecnología competitiva y de bajo cos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rece ventajas para superar barreras fitosanitari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ortancia del personal calific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ientarse a mercados internaciona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aptar los ejemplos extranjeros exitos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scar asociaciones comerciales para acelerar las economías de esca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oducción Unifor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648320" y="2525760"/>
            <a:ext cx="4038480" cy="26748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57200" y="2525760"/>
            <a:ext cx="4038480" cy="26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¡Muchas Gracia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tenido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 la Present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roduc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cnologías Involucrad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ceso productiv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tructura de la Invers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ercializ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lusiones y Recomendacio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976320" y="1600200"/>
            <a:ext cx="29988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trodu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eriencias Extranjeras (España, Marruecos y Colombi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eriencia Peruana (Sur y Norte Chic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ndencias Comerciales (Barreras Arancelarias y Fitosanitaria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ndencias Tecnológica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ecnologí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Tamaño Mínimo Efici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Recursos Hídricos, Técnicos y Human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ontrol Integ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stándares Internacionales de Ca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Ferti-rie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ost-cosec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018040" y="1600200"/>
            <a:ext cx="3299040" cy="21859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016600" y="3938760"/>
            <a:ext cx="330192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ecnología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rol Integrad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trol Fitosanita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trol Biológ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trol Quím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trol Cultu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tándares Internacionales de Ca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826920" y="1600200"/>
            <a:ext cx="3299040" cy="21859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825480" y="3938760"/>
            <a:ext cx="330192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ecnología I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rti-rie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nejo Técnico de la nutrición de la plan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ardware especializ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st-cosec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asific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mpie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826920" y="1600200"/>
            <a:ext cx="3299040" cy="21859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825480" y="3938760"/>
            <a:ext cx="330192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oceso Productiv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018040" y="1600200"/>
            <a:ext cx="3299040" cy="21859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826920" y="1600200"/>
            <a:ext cx="3299040" cy="21859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825480" y="3938760"/>
            <a:ext cx="3301920" cy="21873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016600" y="3938760"/>
            <a:ext cx="330192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structura de Invers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yecto Hipotético de Tomate en Invernader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puest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 hectár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 Invernad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fraestructura acorde al tamañ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es promed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imados para el primer añ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structura de Invers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648320" y="2384280"/>
          <a:ext cx="4038480" cy="2955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84280"/>
                    <a:ext cx="4038480" cy="295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457200" y="1600200"/>
          <a:ext cx="4038120" cy="4525560"/>
        </p:xfrm>
        <a:graphic>
          <a:graphicData uri="http://schemas.openxmlformats.org/drawingml/2006/table">
            <a:tbl>
              <a:tblPr/>
              <a:tblGrid>
                <a:gridCol w="2874240"/>
                <a:gridCol w="1163880"/>
              </a:tblGrid>
              <a:tr h="537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tem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ste To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erren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0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quip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0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32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servor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2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quipo de Rieg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astos preoperativ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33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32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Vialidad Inter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fraestructura de Invernader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50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2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habilitación Inter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0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2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Vehículos y Maquinar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0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astos Operativ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32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x año (planilla + insumo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23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9T00:51:42Z</dcterms:created>
  <dc:creator>Your User Name</dc:creator>
  <dc:description/>
  <dc:language>en-US</dc:language>
  <cp:lastModifiedBy>Your User Name</cp:lastModifiedBy>
  <dcterms:modified xsi:type="dcterms:W3CDTF">2004-01-29T12:40:38Z</dcterms:modified>
  <cp:revision>8</cp:revision>
  <dc:subject/>
  <dc:title>Posibilidades de Inversión en Invernaderos</dc:title>
</cp:coreProperties>
</file>