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FD1C-CBAD-4384-885F-5D231379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DD3F-00DA-4B70-8FF1-623D67FD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B511-FFAE-41A1-BD77-AC2DAFC6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23D0-8143-41B8-8D4A-F9F050911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8EA7-20EE-48B7-B29C-0C276D9F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CAB8-8842-46A1-8696-F74AB21F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73D9-0529-4B3A-B04F-21C86157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8095-7327-4238-BA66-0BB4F3F7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FEBC-C4B5-489A-9C1F-25234279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A002-4BC9-447E-86C6-A858A00E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2BAA-BA09-4D9D-A189-F585067D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9D8D-9FF4-48E7-ACA6-55CD3B77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9EA4-E822-4CAD-B7DE-6A81706DD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ibilidades de Inversión en Invernad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g. Carlos Zanatti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groindustrias Vida S.A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er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gí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ubcont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Quién la pag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yor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nor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x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rcado d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d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o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ns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lusiones y Recomend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ú dispone de ya de una tecnología competitiva y de bajo co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rece ventajas para superar barreras fitosanitar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cia del personal califi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entarse a mercados interna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ar los ejemplos extranjeros exito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car asociaciones comerciales para acelerar las economías de esca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ducción Unifor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8320" y="2525760"/>
            <a:ext cx="4038480" cy="2674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2525760"/>
            <a:ext cx="403848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¡Muchas Graci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enid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 la Pres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nologías Involucr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o produc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ructura de la Inver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erci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es y Recomend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76320" y="1600200"/>
            <a:ext cx="2998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ias Extranjeras (España, Marruecos y Colomb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ia Peruana (Sur y Norte Ch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encias Comerciales (Barreras Arancelarias y Fitosanitar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encias Tecnológic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amaño Mínimo Efic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ursos Hídricos, Técnicos y Hum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trol Integ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ándares Internacionales de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erti-r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st-cos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1804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01660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Integr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Fitosani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Bi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Quí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Cul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ándares Internacionales de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rti-r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ejo Técnico de la nutrición de la pla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dware especializ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-cos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mpi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so Produc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1804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01660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tructura de Inv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yecto Hipotético de Tomate en Invernad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ues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hectá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Invernad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raestructura acorde al tam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es prome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dos para el primer 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tructura de Inv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48320" y="2384280"/>
          <a:ext cx="4038480" cy="29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84280"/>
                    <a:ext cx="403848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57200" y="1600200"/>
          <a:ext cx="4038120" cy="4525560"/>
        </p:xfrm>
        <a:graphic>
          <a:graphicData uri="http://schemas.openxmlformats.org/drawingml/2006/table">
            <a:tbl>
              <a:tblPr/>
              <a:tblGrid>
                <a:gridCol w="2874240"/>
                <a:gridCol w="1163880"/>
              </a:tblGrid>
              <a:tr h="53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te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e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re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quip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ervo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quipo de Rie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stos preoperat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3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alidad Inter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raestructura de Invernad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bilitación Inter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hículos y Maquina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stos Operat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 año (planilla + insum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00:51:42Z</dcterms:created>
  <dc:creator>Your User Name</dc:creator>
  <dc:description/>
  <dc:language>en-US</dc:language>
  <cp:lastModifiedBy>Your User Name</cp:lastModifiedBy>
  <dcterms:modified xsi:type="dcterms:W3CDTF">2004-01-29T12:40:38Z</dcterms:modified>
  <cp:revision>8</cp:revision>
  <dc:subject/>
  <dc:title>Posibilidades de Inversión en Invernaderos</dc:title>
</cp:coreProperties>
</file>